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175-6BA5-4818-852C-594A5D27B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4F07-EB7B-48B9-BEE7-3646012D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6FB5-B175-49BC-9FC7-31FB1200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7D37-07B6-44DD-B3DC-3EE18FE06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A13-1505-4083-AD78-E6AE4B3C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0569-4B75-46F6-B284-EF761190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DF1C-351B-428B-B6D8-F6925BB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DC8-F60F-4B57-AEFD-ED26DEE78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4BF2-9270-4C89-90B9-B9AF7948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B8EC-A3E8-415B-A133-E26B8527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5DE3-6115-47A4-B625-E85E6B43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3894-AB3D-4E13-9A99-178DBCA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B7D3-9EB1-4DA9-B298-847215A995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2009 Meeting with the States</a:t>
            </a:r>
            <a:br>
              <a:rPr sz="4000"/>
            </a:b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12952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2:00 – 12:3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Display set up (Mead projects and state highlights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2:30 – 1:1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unch (sponsored by Pearson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Welcome, Overview, &amp; Introductions: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:15 – 1:3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Greeting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ebecca Kline, NECTFL Executive Directo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Laura Franklin, 2009 NECTFL Conference Chai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:30 – 2:0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009 Conference information – Laura Frankli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Engaging Communities: The World is Our Classroom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Global Exchange present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010 Conference preview – Jaya Vijayasekar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1f497d"/>
                </a:solidFill>
                <a:latin typeface="Calibri"/>
              </a:rPr>
              <a:t>Simply Irresistible: People, Programs and Practices that Inspir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:00 – 2:4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State Highlights: One unique element per organizat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:45 – 2:5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Break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2:55 – 3:1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ACTFL update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3:15 – 4:30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ound table working sessio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Reporting out / next steps: what will come of this for your organization?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1591920" indent="-159192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6081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4:30 – 4:45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valuation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Round Table Working Grou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Reporting out – next steps: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will come of this for your organizatio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eedback from 2008 State Leader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participants said they value mos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Networking with colleagues from the 14 organization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Round table format: small group work on a question followed by large group feedbac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Suggestions from 2008 State Lead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participants proposed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mmunication between and among the organizations outside of this annual meeting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“How could we communicate and interact and share more during the year?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ossible partnerships – collaborative projects / initiatives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“Charge us with a task for the common good.”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Calibri"/>
              </a:rPr>
              <a:t>Suggestions from 2008 State Leade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On logistics: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rogram order: allow time to consult with other state leaders </a:t>
            </a:r>
            <a:r>
              <a:rPr b="0" i="1" lang="en-US" sz="3200" spc="-1" strike="noStrike">
                <a:solidFill>
                  <a:srgbClr val="1f497d"/>
                </a:solidFill>
                <a:latin typeface="Calibri"/>
              </a:rPr>
              <a:t>after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the organizations’ highligh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s year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One unique element per organization: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ot down questions you may have for colleagu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irculate, discuss, share and problem-solve: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quick discussions, then change partne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nking across the 14 organizations within the NECTFL, are there common goals and needs among our organizations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Among those goals and needs, what are your organization’s top three priorities?</a:t>
            </a:r>
            <a:br>
              <a:rPr sz="3200"/>
            </a:b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ree clear items at the top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dvocac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rofessional develop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Recruitment of new members to the organiz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If you were to collaborate with another state organization:  Who would your logical partners (organizations/associations) be?  What types of activities might you engage i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oint conference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Joint PD offering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What professional development topics are most pressing at this tim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ifferentiatio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Assess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Technology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Instructional Method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urriculum Design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2009 State Leaders’ Surve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Underserved area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Geographical area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Underserved popul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K-6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Less Commonly Taught Languages (LCT’s)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Post-secondary instructor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Round Table Working Group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Possible partnerships / collaboratio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could we do </a:t>
            </a:r>
            <a:r>
              <a:rPr b="0" i="1" lang="en-US" sz="2800" spc="-1" strike="noStrike">
                <a:solidFill>
                  <a:srgbClr val="1f497d"/>
                </a:solidFill>
                <a:latin typeface="Calibri"/>
              </a:rPr>
              <a:t>together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etter than alon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dvocacy /  Professional Development / Recruitmen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51444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Underserved areas / population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571680" indent="-514440"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ommunication between and among our organizations during the yea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What method would be most constructive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NECTFL States page: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ow to keep info updated with leadership changes?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40:04Z</dcterms:created>
  <dc:creator>Charlotte E. Gifford</dc:creator>
  <dc:description/>
  <dc:language>en-US</dc:language>
  <cp:lastModifiedBy>Charlotte E. Gifford</cp:lastModifiedBy>
  <dcterms:modified xsi:type="dcterms:W3CDTF">2009-05-05T19:10:26Z</dcterms:modified>
  <cp:revision>20</cp:revision>
  <dc:subject/>
  <dc:title>2009 Meeting with the States Agenda</dc:title>
</cp:coreProperties>
</file>